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591B-C76A-4AB7-BEA1-2D1051D252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1D46-7E3A-4D62-939D-0598F7ED4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B998-5966-425E-8888-3EAEF9F58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6980-4CD1-41C8-BCD9-9F337A2F0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56BB-9F5E-42BD-941B-756C7F224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A0D4-A7E5-445F-829A-118A7F76B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6A49-9D6C-468D-83D6-E41716D3E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7C91-9E4B-4FB0-A7CB-84D3063E8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65C5-FD37-4C40-B204-0A4FF918F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AB27-F28E-4757-AE61-E9A8A9B9F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F6B54D-A100-4A01-870A-9308C4B231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E95AEB1-D210-464B-BAF3-6843F1416A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D424EFF-A233-4D44-9CB2-6E0D46B82A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617233-491D-4D1E-91D4-2D92207D69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FBD3B5-DA3B-4D81-AE66-F98AEAF5E2F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7D488F-BFEC-4E82-94B3-06E8CAF2537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8E2611-2D20-4D06-B9D4-D42B6F3117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1983347-F468-4FE6-8332-194A3F5F561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6375FBB-DB5E-409A-9205-817D567B02B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E94EB4D1-793F-4C5A-81DC-DC00664C5F6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AA99673A-A6E2-4B0E-8E25-4905C57F09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0451B37C-0985-47DA-A7F1-A741659A4A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E12494EF-7A70-4FAF-ADAD-B9F4EC5CC6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A13CBD4A-CB26-4238-AB91-F045536B9E9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2770BD0B-0A49-45A7-8F9B-28C0D96461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EC193F7-D190-4141-946C-CBDB70D831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12C4761-7135-40BE-AE65-D34A883BA8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49F7040-D976-425D-BF3A-1215EF75A2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2F52613-342B-4629-88AE-3DC5ED8EA9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7A5D78EB-E9D3-412D-BC37-384B64AB73A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E1B00FBF-D343-441B-BE6E-E0AF3C5C369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64051A0-82EF-4A8C-B988-91307B32D5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ED2D1FF-A149-4DA0-90FF-055E54711F8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50937F1-2736-4FEE-8247-9A1069EC7B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B6BFE64-6E75-4B5E-93A8-53DE729C739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D153690-8DC0-4A29-ABB9-DA6233CF33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D68BA7E-BA7E-4795-B99A-E4AE32D397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E5C5A4-9B87-4FF6-BFC9-9B8F14D605D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089AB6-BE3B-4C84-9C3E-63D4951FE3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E5BA32-3076-4A26-BFE5-7D1EFC6487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AC4B8C-C7AB-4E81-9D9D-8C5C9B511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EF7197-57BB-491B-8CE1-8C2E7A13EA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5433FE7-282A-44E9-9229-2B9CF35CD6E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D862FE-79C5-449D-AFD1-D376C11E256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50DAFD2-71EE-4AD6-9E3E-97E287862AD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B3DC58F-BAA0-4DC1-9769-5B78EB25CF3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A91C4E-5C22-414E-8B3A-3AF67927E6F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71DB0B0-4257-4B76-819C-CC1DBB3FEAC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C42FFF7-CFE6-4BAB-93DB-C4301E86360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B1C574-510C-4371-A8A3-F5D4845D38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32D640A-F9D6-445E-9459-F40B082693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30F20-101C-4170-BCEF-A45E3E67E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E79DFED-383B-47E4-B2F4-022C69E53EC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933DE1F-8449-4F44-A4CF-2BF0C51932C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4C9AAE3-FCE9-48EC-9780-38813CF54D8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73EACF7-6EB5-4061-BD8B-6634E143B7E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1D5A0BD-6B8A-4711-BFD2-4640451B706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561AB-1A60-4BC7-B99A-887A10B49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8AD79-FD7C-4FDE-A474-01BC37DE8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FDD66-288D-49EF-9D1F-0967670BC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3500D-F1EF-4384-8C6B-D4B109F3F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EE0AC-2BC4-4914-8B50-F30C24CB0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4DF26-523D-44B8-B421-E8FAC6476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66924-8BE5-4E37-BC30-C39C6DFEB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A7D07-CA82-4CC2-8495-822846FC0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0DDC66-498F-414B-99D7-7F36657D18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3F1F67-DBB2-4695-B646-5A7FE0D74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20CC9A-C832-4C4C-AF90-6D94F10148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5DB377-A63E-4CF6-9CBF-55A811311F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D19164-E1C7-4AF2-B592-67993F4E4A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35F772-DB89-4463-AD4B-02ECBED7C0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B946D9-E00F-4DA5-B55D-6AF5B06A4E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9DAA40-D41F-4CAA-9A1C-D867F9356B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A69AEA-E0B1-4606-AF2B-22CB4B0585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D9BBA8-BE51-482A-B98E-80A939E886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56B134-4DA0-4FB5-A14B-3F68399400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4BCD0E-0E89-4C45-8C44-B8609B7F76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B84FF4-9198-4D6E-86CB-666C85EDF9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A9DE01-FDA6-4612-B050-6FF8B10C35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A338F5-DA84-4441-83FA-104EC6F0B5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62173F-A08D-44A1-AE53-E4B2BDDE20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CC0523-E884-41DB-9C75-6760992415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40E4DC-8046-4C0F-A07B-560120B081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AE8ACC-9885-4E3D-8B46-4E828F6CA7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45CCC5-307C-4429-AD4B-FB68776E66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807885-DE48-472E-91C8-7AF4A6D705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5C8769-17F4-4E2D-9628-6B3493A593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BA0BB5-90EA-4E11-94FB-E0982DDB84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0A9980-463A-4769-BC3B-3F45EB356C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608FB2-D96D-4E40-A9D6-318E80A020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57BCE8-1F51-4359-9E5C-B667E8543E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BBE31CF-F6BB-413E-844A-7F94E5B44DC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DDBB17-E6F0-4104-8B87-2EBC724774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E4BA17-02C1-408F-98F0-D5DDFF4397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159636-D5EC-4F18-A491-49392F2D40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AF0654-3F5B-43D0-B9ED-F42BD86522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AF0D7C-1D90-4665-B5A0-334BA3297E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B27A2-49CB-460B-A3F2-923991F9FB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7001E8-3F05-4900-8F30-183DA15D77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D0194F-FEF2-455A-838D-7BD2900B8D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240EF0-8048-4364-BEE5-30C3EEC452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D9E5D0-88ED-4D94-AD4F-5506FA9EC56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600F62F-A157-4CEE-BAAE-CB35A7127F3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8FDEF6-643C-4889-ADA5-0EEC1D1F68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0B6D7E-F1A7-4EE6-A84F-C5B95EE468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ACF044A-D867-416A-B7A3-4B751AB984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41A1AD-E144-41E6-B060-D91689CB53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AB10E6D-4463-4C65-A1CA-E99B0C414B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28BCFA-741A-4D05-B568-40A08F8E9A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1AEBF6-4A5B-4481-8AB6-00CE1D4650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83DA3A-7BF6-4040-A616-54C52FEE16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56B0E1-6969-47B8-A085-3D1634B382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A7E705-D79F-4A39-92A0-0CAF2AC7B6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5A6D82-C519-4A6C-AB63-C2BE6BD34A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35ED71-954B-4F7F-A6AD-0796D34F28B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67B854-918C-4E76-944C-B33031C96A8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5FC445-31DC-494D-BD14-69D87754A81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9CA25A-B78D-4193-926A-3A77F4E36F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94DE93-00E3-4104-A3A6-DA3E0DCA9E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E22325-A8ED-4EF2-A7DB-D007BECBBF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114389-294B-4C77-B696-5CB0D36E55D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40AD3F-DA77-495A-98FE-E7E4228757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0E04D4-FA6F-4DD4-B314-2478CD3976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174AAC-D72B-4490-96C7-6831F20E3D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D54E06-C1D5-42D6-BD15-DA4D79BB8A5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2F4DD5-3470-437A-A7ED-2269021A5D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292442D-EA7F-4464-A46C-D27EB28D943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1949399-9EAA-4661-838F-7E33F04446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14F4BE2-018A-419C-B60F-6FD3B9B4DC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9D8BD1-F0DC-4C87-A731-A01F731656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0E1ACA-A362-4E6D-AFDF-B1C8C8A3DE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1EBD638-3FD0-443A-B764-0A029FD1AD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90342E5-5CE5-4866-9033-5E0DF68AF3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BC8537-C98B-4652-BDA3-9D3FE5590D7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DD216D-B664-4FBA-9126-EF66140DD1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D99929-E383-4D0A-8582-7B447E2C44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872E58-07E8-46E8-B311-8C11E0BEAC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8CB7F81-1CDA-4384-9710-296816778CD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220528-F7C6-4FCA-BE29-BD4458B6B8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EA896F7-57D7-4E1B-9325-24F85A1C5F9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CB2262-B035-451E-8CC7-705DC14C23E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E8BC16E-5048-491A-B7C6-05B46BF8993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DD6C-2B5C-495F-9FFD-35845C1942D4}"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89AC-0450-4745-90D1-2B85D87BE99E}"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6753-B164-45CB-B438-A95A8980445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68FA-CAAA-4CD1-BC11-BA9E94CB928A}"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8364-393A-42E4-8C5E-56FB4834AEA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5399-9419-4F1D-8D7C-6B4489667450}"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FB35-AE28-401E-826B-C5131A0887C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3F01-F887-4C10-BE25-9B6505AC06A5}"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BDCB-83FD-4B5F-852C-921FFF1C893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3CE8-21A3-4EF5-BCEC-00DC0C348D9D}"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F78C-4348-4D46-90EA-6D7FF813C9CF}"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D125-5288-45BE-A539-53B2A851EA2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AEE4-9DA6-4FB1-849D-EC8976418A80}"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8C6F-9187-498E-B8C5-8DC2B4CD5BD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551C-0B6D-478F-8FE1-3FBDAEE83B4F}"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7DC4-89F4-4A3B-9C8C-8DB266E0C84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CB08-FDC0-4100-A17E-07D55ED92968}"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587F-B62C-403D-9207-2806FDD84D3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F831-D547-4DCD-BA9E-CA306EC1F7E3}"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2CC-31CD-4A6F-8513-B12D9F0E3D8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7A19-CA53-4A0F-94E2-96048A74618F}" type="datetime">
              <a:rPr b="0" lang="en-US" sz="1200" spc="-1" strike="noStrike">
                <a:solidFill>
                  <a:srgbClr val="e3ded1"/>
                </a:solidFill>
                <a:latin typeface="Calibri"/>
              </a:rPr>
              <a:t>07/30/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DCB2-7DBA-421C-83C7-5F9059FE0D7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